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A30-2812-4FD6-AAED-283D37FFA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0AE-BCA1-439B-AF96-CF312EF18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A8D-5F55-4663-B4A0-E4837F0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CE7-4104-4449-A1E7-FA4C1F5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59B-0621-4996-97AF-93BA61BA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082-41DD-4527-943E-755A07A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8ED-C48A-4045-BF15-78EE3CA9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3D3-4755-483F-BDA9-AC942298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3E3-5F26-4D96-9D98-280D401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A1D-222C-4000-92A1-69689770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B4E-92B1-4FF3-9C03-787B979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400-55E0-4F00-AA26-62054F5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802-A1E0-4045-9922-7191380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6D3-87FE-4A15-A5A2-63CA79D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6A47-9295-4DC2-81F7-7CBF355CAE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19080">
            <a:solidFill>
              <a:srgbClr val="1e1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1e1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0"/>
            <a:ext cx="611280" cy="7044120"/>
          </a:xfrm>
          <a:prstGeom prst="rect">
            <a:avLst/>
          </a:prstGeom>
          <a:solidFill>
            <a:srgbClr val="1e1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692360" y="69228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ORROBOND 65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ксидная зал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00000" y="1802160"/>
            <a:ext cx="7489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вухкомпонентная эпоксидная заливка для дробильных установок,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акже может служить для подавления шумов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Korrobond 65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лужит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кладочним материалом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усиливающим слоем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жду элементами машин,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 также как амортизатор от ударных и вибрационных нагрузок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895320" y="3156120"/>
            <a:ext cx="55656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чень высокая прочность на сжат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одержит растворителе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ое образование трещ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егко наносится – не требует специальной подготовк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лично подходит как к новым так и к уже работающи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шин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ударопрочность и упруг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50000"/>
              </a:lnSpc>
              <a:buClr>
                <a:srgbClr val="1e1c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деальна для экстримально холодных услов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Korrobond 65 Tub"/>
          <p:cNvPicPr/>
          <p:nvPr/>
        </p:nvPicPr>
        <p:blipFill>
          <a:blip r:embed="rId1"/>
          <a:stretch/>
        </p:blipFill>
        <p:spPr>
          <a:xfrm>
            <a:off x="6516720" y="3068640"/>
            <a:ext cx="2041560" cy="21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Korroflex LOGOS"/>
          <p:cNvPicPr/>
          <p:nvPr/>
        </p:nvPicPr>
        <p:blipFill>
          <a:blip r:embed="rId2"/>
          <a:stretch/>
        </p:blipFill>
        <p:spPr>
          <a:xfrm>
            <a:off x="6443640" y="5562720"/>
            <a:ext cx="247968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59:59Z</dcterms:created>
  <dc:creator>gpawar</dc:creator>
  <dc:description/>
  <dc:language>en-US</dc:language>
  <cp:lastModifiedBy>Vyacheslav Bondarev</cp:lastModifiedBy>
  <dcterms:modified xsi:type="dcterms:W3CDTF">2022-02-01T13:51:37Z</dcterms:modified>
  <cp:revision>38</cp:revision>
  <dc:subject/>
  <dc:title>ITW Korroflex  Corporate Presentation</dc:title>
</cp:coreProperties>
</file>